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2913-CA7E-47CA-B0D5-139A10CC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47CB-147A-4362-AE08-E14C5674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4AAC-8927-4138-A5A4-978036A7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4BA2-55EA-4CFE-825D-F5C38E96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165C-60C3-4F09-8675-0226826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0A3B-844F-4518-A7FD-6EB585A8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78A7-78AE-4B63-AEE3-E02684B9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C234-3E3E-4A8D-ACAC-CA974B73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D1D8-BE69-41B7-872B-7230FC8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DFA5-CE1F-47D6-9522-8C069E6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BE0B-32F5-4ECE-B91F-4090C65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A570-EF3C-477B-B89C-7136947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C8E3-037E-44EB-B9D0-6493EBA4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7E6-451F-488B-BF18-6C1170A2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16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FE – ERCOT DC-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ercial Ope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lleen Fro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ystem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DC-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2" descr="texas"/>
          <p:cNvPicPr/>
          <p:nvPr/>
        </p:nvPicPr>
        <p:blipFill>
          <a:blip r:embed="rId1"/>
          <a:stretch/>
        </p:blipFill>
        <p:spPr>
          <a:xfrm>
            <a:off x="5334120" y="3124080"/>
            <a:ext cx="3124080" cy="290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E - ERCOT Operational DC-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gle Pass (DC_S) 36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edo Variable Frequency Transformer  (DC_L) 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yland Railroad (DC_R) 150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- SPP Operational DC-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 DC-Tie (DC_N) 22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 DC-Tie (DC_E) 6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6900120" y="3608640"/>
            <a:ext cx="338760" cy="346680"/>
            <a:chOff x="6900120" y="3608640"/>
            <a:chExt cx="338760" cy="346680"/>
          </a:xfrm>
        </p:grpSpPr>
        <p:grpSp>
          <p:nvGrpSpPr>
            <p:cNvPr id="98" name="Group 7"/>
            <p:cNvGrpSpPr/>
            <p:nvPr/>
          </p:nvGrpSpPr>
          <p:grpSpPr>
            <a:xfrm>
              <a:off x="6900120" y="3608640"/>
              <a:ext cx="338760" cy="346680"/>
              <a:chOff x="6900120" y="3608640"/>
              <a:chExt cx="338760" cy="346680"/>
            </a:xfrm>
          </p:grpSpPr>
          <p:sp>
            <p:nvSpPr>
              <p:cNvPr id="99" name="AutoShape 3"/>
              <p:cNvSpPr/>
              <p:nvPr/>
            </p:nvSpPr>
            <p:spPr>
              <a:xfrm rot="2442600">
                <a:off x="6919920" y="3765240"/>
                <a:ext cx="208080" cy="13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4"/>
              <p:cNvSpPr/>
              <p:nvPr/>
            </p:nvSpPr>
            <p:spPr>
              <a:xfrm rot="13242600">
                <a:off x="7011000" y="3659400"/>
                <a:ext cx="208080" cy="138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"/>
              <p:cNvSpPr/>
              <p:nvPr/>
            </p:nvSpPr>
            <p:spPr>
              <a:xfrm>
                <a:off x="6991200" y="3713400"/>
                <a:ext cx="157320" cy="136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6"/>
            <p:cNvSpPr/>
            <p:nvPr/>
          </p:nvSpPr>
          <p:spPr>
            <a:xfrm flipH="1">
              <a:off x="6935760" y="3649320"/>
              <a:ext cx="247680" cy="285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7661880" y="3913200"/>
            <a:ext cx="339120" cy="346680"/>
            <a:chOff x="7661880" y="3913200"/>
            <a:chExt cx="339120" cy="346680"/>
          </a:xfrm>
        </p:grpSpPr>
        <p:grpSp>
          <p:nvGrpSpPr>
            <p:cNvPr id="104" name="Group 7"/>
            <p:cNvGrpSpPr/>
            <p:nvPr/>
          </p:nvGrpSpPr>
          <p:grpSpPr>
            <a:xfrm>
              <a:off x="7661880" y="3913200"/>
              <a:ext cx="339120" cy="346680"/>
              <a:chOff x="7661880" y="3913200"/>
              <a:chExt cx="339120" cy="346680"/>
            </a:xfrm>
          </p:grpSpPr>
          <p:sp>
            <p:nvSpPr>
              <p:cNvPr id="105" name="AutoShape 3"/>
              <p:cNvSpPr/>
              <p:nvPr/>
            </p:nvSpPr>
            <p:spPr>
              <a:xfrm rot="2442600">
                <a:off x="7681680" y="4069800"/>
                <a:ext cx="208080" cy="13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4"/>
              <p:cNvSpPr/>
              <p:nvPr/>
            </p:nvSpPr>
            <p:spPr>
              <a:xfrm rot="13242600">
                <a:off x="7773120" y="3963960"/>
                <a:ext cx="208080" cy="138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"/>
              <p:cNvSpPr/>
              <p:nvPr/>
            </p:nvSpPr>
            <p:spPr>
              <a:xfrm>
                <a:off x="7753320" y="4017960"/>
                <a:ext cx="156960" cy="136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6"/>
            <p:cNvSpPr/>
            <p:nvPr/>
          </p:nvSpPr>
          <p:spPr>
            <a:xfrm flipH="1">
              <a:off x="7697880" y="3954240"/>
              <a:ext cx="247680" cy="285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6595200" y="5056560"/>
            <a:ext cx="338400" cy="346320"/>
            <a:chOff x="6595200" y="5056560"/>
            <a:chExt cx="338400" cy="346320"/>
          </a:xfrm>
        </p:grpSpPr>
        <p:grpSp>
          <p:nvGrpSpPr>
            <p:cNvPr id="110" name="Group 7"/>
            <p:cNvGrpSpPr/>
            <p:nvPr/>
          </p:nvGrpSpPr>
          <p:grpSpPr>
            <a:xfrm>
              <a:off x="6595200" y="5056560"/>
              <a:ext cx="338400" cy="346320"/>
              <a:chOff x="6595200" y="5056560"/>
              <a:chExt cx="338400" cy="346320"/>
            </a:xfrm>
          </p:grpSpPr>
          <p:sp>
            <p:nvSpPr>
              <p:cNvPr id="111" name="AutoShape 3"/>
              <p:cNvSpPr/>
              <p:nvPr/>
            </p:nvSpPr>
            <p:spPr>
              <a:xfrm rot="2442600">
                <a:off x="6615000" y="5213160"/>
                <a:ext cx="207720" cy="13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4"/>
              <p:cNvSpPr/>
              <p:nvPr/>
            </p:nvSpPr>
            <p:spPr>
              <a:xfrm rot="13242600">
                <a:off x="6706080" y="5107320"/>
                <a:ext cx="207720" cy="138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5"/>
              <p:cNvSpPr/>
              <p:nvPr/>
            </p:nvSpPr>
            <p:spPr>
              <a:xfrm>
                <a:off x="6686280" y="5161320"/>
                <a:ext cx="156960" cy="136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Line 6"/>
            <p:cNvSpPr/>
            <p:nvPr/>
          </p:nvSpPr>
          <p:spPr>
            <a:xfrm flipH="1">
              <a:off x="6630840" y="5097240"/>
              <a:ext cx="247680" cy="285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6823800" y="5361120"/>
            <a:ext cx="338760" cy="346320"/>
            <a:chOff x="6823800" y="5361120"/>
            <a:chExt cx="338760" cy="346320"/>
          </a:xfrm>
        </p:grpSpPr>
        <p:grpSp>
          <p:nvGrpSpPr>
            <p:cNvPr id="116" name="Group 7"/>
            <p:cNvGrpSpPr/>
            <p:nvPr/>
          </p:nvGrpSpPr>
          <p:grpSpPr>
            <a:xfrm>
              <a:off x="6823800" y="5361120"/>
              <a:ext cx="338760" cy="346320"/>
              <a:chOff x="6823800" y="5361120"/>
              <a:chExt cx="338760" cy="346320"/>
            </a:xfrm>
          </p:grpSpPr>
          <p:sp>
            <p:nvSpPr>
              <p:cNvPr id="117" name="AutoShape 3"/>
              <p:cNvSpPr/>
              <p:nvPr/>
            </p:nvSpPr>
            <p:spPr>
              <a:xfrm rot="2442600">
                <a:off x="6843600" y="5517720"/>
                <a:ext cx="207720" cy="13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4"/>
              <p:cNvSpPr/>
              <p:nvPr/>
            </p:nvSpPr>
            <p:spPr>
              <a:xfrm rot="13242600">
                <a:off x="6935040" y="5411880"/>
                <a:ext cx="207720" cy="138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"/>
              <p:cNvSpPr/>
              <p:nvPr/>
            </p:nvSpPr>
            <p:spPr>
              <a:xfrm>
                <a:off x="6915240" y="5465880"/>
                <a:ext cx="156960" cy="136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Line 6"/>
            <p:cNvSpPr/>
            <p:nvPr/>
          </p:nvSpPr>
          <p:spPr>
            <a:xfrm flipH="1">
              <a:off x="6859440" y="5401800"/>
              <a:ext cx="247680" cy="285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6976080" y="5742000"/>
            <a:ext cx="339120" cy="346680"/>
            <a:chOff x="6976080" y="5742000"/>
            <a:chExt cx="339120" cy="346680"/>
          </a:xfrm>
        </p:grpSpPr>
        <p:grpSp>
          <p:nvGrpSpPr>
            <p:cNvPr id="122" name="Group 7"/>
            <p:cNvGrpSpPr/>
            <p:nvPr/>
          </p:nvGrpSpPr>
          <p:grpSpPr>
            <a:xfrm>
              <a:off x="6976080" y="5742000"/>
              <a:ext cx="339120" cy="346680"/>
              <a:chOff x="6976080" y="5742000"/>
              <a:chExt cx="339120" cy="346680"/>
            </a:xfrm>
          </p:grpSpPr>
          <p:sp>
            <p:nvSpPr>
              <p:cNvPr id="123" name="AutoShape 3"/>
              <p:cNvSpPr/>
              <p:nvPr/>
            </p:nvSpPr>
            <p:spPr>
              <a:xfrm rot="2442600">
                <a:off x="6995880" y="5898600"/>
                <a:ext cx="208080" cy="13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4"/>
              <p:cNvSpPr/>
              <p:nvPr/>
            </p:nvSpPr>
            <p:spPr>
              <a:xfrm rot="13242600">
                <a:off x="7087320" y="5792760"/>
                <a:ext cx="208080" cy="138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"/>
              <p:cNvSpPr/>
              <p:nvPr/>
            </p:nvSpPr>
            <p:spPr>
              <a:xfrm>
                <a:off x="7067520" y="5846760"/>
                <a:ext cx="156960" cy="136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6"/>
            <p:cNvSpPr/>
            <p:nvPr/>
          </p:nvSpPr>
          <p:spPr>
            <a:xfrm flipH="1">
              <a:off x="7012080" y="5783040"/>
              <a:ext cx="247680" cy="285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35"/>
          <p:cNvSpPr/>
          <p:nvPr/>
        </p:nvSpPr>
        <p:spPr>
          <a:xfrm>
            <a:off x="6781680" y="3349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C_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20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6"/>
          <p:cNvSpPr/>
          <p:nvPr/>
        </p:nvSpPr>
        <p:spPr>
          <a:xfrm>
            <a:off x="7620120" y="3505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C_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00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7"/>
          <p:cNvSpPr/>
          <p:nvPr/>
        </p:nvSpPr>
        <p:spPr>
          <a:xfrm>
            <a:off x="6019920" y="5181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C_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6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8"/>
          <p:cNvSpPr/>
          <p:nvPr/>
        </p:nvSpPr>
        <p:spPr>
          <a:xfrm>
            <a:off x="6248520" y="5410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C_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9"/>
          <p:cNvSpPr/>
          <p:nvPr/>
        </p:nvSpPr>
        <p:spPr>
          <a:xfrm>
            <a:off x="624852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C_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50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ercial Operations of the South 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anagement of the scheduling process in the South DC-Ties will be similar to the North DC-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Corpus Christi will be the Tie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modifications to the ERCOT systems will be necess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to establish a NERC E-Tag operation for transactions between Mexico and ERCOT (and vice vers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y-Ahead Operations - Limit Calcul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57200" y="1600200"/>
            <a:ext cx="2666880" cy="457200"/>
          </a:xfrm>
          <a:prstGeom prst="rightArrow">
            <a:avLst>
              <a:gd name="adj1" fmla="val 50000"/>
              <a:gd name="adj2" fmla="val 14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E Day Ahead Limit Trans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457200" y="2438280"/>
            <a:ext cx="2743200" cy="533520"/>
          </a:xfrm>
          <a:prstGeom prst="rightArrow">
            <a:avLst>
              <a:gd name="adj1" fmla="val 50000"/>
              <a:gd name="adj2" fmla="val 128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Day Ahead Limit Trans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457200" y="3352680"/>
            <a:ext cx="2666880" cy="486000"/>
          </a:xfrm>
          <a:prstGeom prst="rightArrow">
            <a:avLst>
              <a:gd name="adj1" fmla="val 50000"/>
              <a:gd name="adj2" fmla="val 137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-Tie Lim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4572000" y="1447920"/>
            <a:ext cx="274320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set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f al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33520" y="419112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calculated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to provide ERCOT limits by 16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will be made public and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will be recalculated in real-time based on system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sting Daily Lim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533520" y="167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for South Ties will      be on Daily Limits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480" y="31240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eal-Time Data page to include DC-Ti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tailment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will be recalculated in real-time based on system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/CFE will identify the amount that needs to be curtai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st approved E-tag will be the first to be curt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 Be Completed before Commercial Operations begi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Inadvertent agreement with C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es in place for ERCOT/CFE/A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E-Tag System in pl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Tie Operator systems rea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declare ready for Commercial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 Employee</cp:lastModifiedBy>
  <dcterms:modified xsi:type="dcterms:W3CDTF">2008-01-14T16:20:51Z</dcterms:modified>
  <cp:revision>46</cp:revision>
  <dc:subject/>
  <dc:title>Instructions</dc:title>
</cp:coreProperties>
</file>